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50663-A54A-481C-835E-C75590225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FD003-1FE0-4B8C-8637-7C10210BF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AEA5A3-F19B-4EEF-BA3B-C5D8C561C4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E75BAB-9569-4E27-8398-8688E9113B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271C55-C2DA-4AA1-B33A-13D95A1315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F02A8A-655D-493C-88C1-7E6D2EE7EE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0C50F5-6E6A-4539-8478-33404F3985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00AF9D-04B7-418D-863E-7D67C44CCE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8A5F34-DBC5-413D-A4DA-FBD7BEDEC8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7A6066-6A58-40CC-8810-6510763624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439EF8-0694-4239-A1F6-A3613E003A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DA77037-8099-4BE2-98F9-80EED11C64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95707-2C8F-4A21-8EA2-897C839C3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53BBC9-6184-40BE-AD68-5A978E8569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E6EF1C-3D25-4D21-A9EE-C1A18D8E85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3F9F75-4416-4ADB-B2B7-B489E0839B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FA426E-967A-42CC-85C4-342A24D2F1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CA3C51A-0877-4D1B-B571-5ED6B9E53DC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B7AEAC-7D12-4E87-8542-2654675629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93AE12A-A801-4308-8069-3D7B5171F5D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583EB79-EE89-49AC-8DE2-D39622FA3E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C517A3-D6C0-4EAD-A2B0-4D59E55299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A921D0A-883D-4924-BEA1-BE7E40CE83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4783F-9EB2-4416-B16D-9EBBC8B7A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AF6F0C-F4B2-44C2-B402-D364AEB9E88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F874244-54AD-41BE-8661-0ABE6EDFB3C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912BFA-7B59-4047-8407-66FEA62D1E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FB1520D-3495-40C2-B90A-7A992A496B9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168D99-E7A5-4D3C-B561-71EC14DD04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BA12A1-0E5C-40A4-9052-19B80F80D3D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8229AC9-45F6-47A3-839C-0F137D7A31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A475C7-8D77-4FB9-9C35-A1CB4AA68A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16306C-CAE9-4446-8134-19A072DA3C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9B1DD3-37A2-45F0-BDAF-B49725CC02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7240E-304D-4B90-A0B6-F00B5A7455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9D5B34-915E-4A5F-B4F1-11735381724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02C28FA-7BE2-4422-96C8-1EB671AB36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300B35B-6CE1-4E73-846D-E27D319A1D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E705BC-314E-463E-AFDC-268F4936CC6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E34EE0-ECFD-411E-B408-E6A35071F18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BD140B-B353-49CB-BBC3-D067B5C200D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34A332-0A52-4AFA-AF34-E656295EEA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E5DB4A-DF47-4468-A068-2DA36F13A1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5933DB-1471-4447-84F8-746C94F98E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E1E1AF-E8AF-44DC-BA54-A98F0C9F2B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59210-DEF9-4277-800A-52DFACD37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07A832-0A52-471E-8C44-91A75CF08C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732F22-859B-47B5-89DB-A27C2C886A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42930F-92DF-4587-B352-C16D8741638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1B122D6-BD43-40BC-B808-51A5D78A2BE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E358757-7BF9-4594-937E-16894681AE3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46AA7F7-CC01-41D3-9FA9-9B87E9EA671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6D0DA4-0914-4312-ACC2-22861E28B7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692FC6A-1163-4F0A-A99E-A01C14720A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BEF6CC0-41F2-4D8E-8B4E-748C2C0539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6BFE7C-75DA-4991-AEA3-17B04320BED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286C0-E22F-4398-AB31-BAF195E22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9E8CF8-EE07-4D29-B858-FF559AEED3E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221DCF2-EAD7-4D9E-8763-F8D43E88F5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8E1FB4-02C3-4807-B9CB-3E1503A8F29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7354A1-A396-4D10-9BEB-F7A9BB185A5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F70FC2A-AD35-46FB-8BF4-128DA53F87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7AB4866-4AB4-48CA-89F5-FFD854063F4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9C9751C-EB20-43F6-89C0-75C9F370E9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26C455C-F94F-4C4B-8104-EFB75A67D8C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3F771DD-FDDE-4F08-B8DB-397C7934C6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2E98E47-22F6-4481-AD7D-4A69E005FC7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D9D666-E8E3-4B15-BBC5-51397F07C8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B6A0829-6C9B-4E71-A786-3970E79BCA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282E5C3-D6C6-492C-A49D-E776422762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D209B5-4944-493D-87E6-3897F43DD59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BA45AD2-7C25-4A10-BFEC-7C766A7652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8E86EE-46CD-4F5F-A73E-41C2A7C421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52D7343-6250-42E3-B1DA-DC0F992747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2F36A8D-2295-4BB2-9EBF-9FC1D9D30C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BC308E-BE7D-4736-B06F-64F1E25B9AA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37D4DD9-E338-428A-871F-98776AE567F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69D8ACA-25B8-4944-A779-906C03A3479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45A66E-AB48-40C0-9509-AD0D3B161B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7125561-A210-41DA-9E9D-2C70C983FF6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1923562-FC9B-437A-828D-2C8D52BED5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E708FA0-F092-49B6-B2CB-BAD739D0CE9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6F1091F-8599-4DAC-90AA-DA1572F0954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9566C0C-D4F2-4598-975E-7936EB42A96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2D556A-C9AD-4A32-90BF-794649384CD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B9D7B32-5B8A-46BE-A662-5B0F31A392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21012B7-0EFA-4C28-8870-3D47F706E7F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9FD4C1D-A909-407A-BF95-09C7BBCB39F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3CF518C-AB57-4A1E-A770-845B92250F3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A0AD8-7928-4877-B72F-2BD1FF749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8E6D9AC-9B3E-44FA-9E8E-44386A35E6F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0E55425-1CCA-4072-8F9E-7DAD171C602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19C8AC9-45F9-4BE8-8D16-B3796A30FFB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A8FEDD3-4A1C-46D8-AFFB-1CCBA6489E4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1A975AE-7FB7-4230-B14A-C636154F47B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4CDC0FB-A0BB-4DD0-BDED-AE612299A92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7F8207-B477-4D6A-B26E-280A71A0DED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B6102C1-8A0C-4BCB-9945-CEE0C3B128C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3F90D0C-7D86-44A5-9D0C-9267BA1BBF0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ECB222B-51EE-4608-ACF8-3A91ABDF742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B99FE-C223-4206-ADF4-2307C8C7B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FA57088-4B0B-4C19-8F05-1762394343A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702D4E1-4010-4CDD-9810-27790A931C3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3D39F38-5CF0-4127-BD7E-798A7117C26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FF510-9625-4BF8-AE10-B4E48003A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1EF72-2E2F-4BB2-8F46-6AADADE29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03C83-05B2-4691-9AEE-74A26EB5B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32AD5-3317-4B4C-B480-36851EFA4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6BC7FE-D5FD-49AB-B467-D77C2F1E9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4F67F-A265-4E67-84FD-66376062C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934266-ECFF-4D6E-B1E7-85DF91E7D1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D6980-9EFC-4655-A8F8-1B9CCF91D2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8C0E74-88D6-446D-9873-9D72ED86BA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6BA0E5-F0DF-4CCA-89D0-9674667B5B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74C8F5-377E-40C6-B50B-7916A4A30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90907-261B-4016-8B76-D162C4A55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EE1237-6193-4A23-8A68-466617A746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716E37-5CE5-4ADB-9BFB-3D11570AA8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99F8A-68C2-4EED-BF86-AE9F7A82D1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CE125-4DAB-4035-8DBA-30231F0C4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F11EEE-C754-4CC3-80A5-82B97FFE1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3694D6-431A-43E8-BD8A-BEF3B53E87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BC5E55-6B63-4FF7-91C3-FA53C8BC4F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0C3416-1F23-4C9E-AE15-CF66DC0964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76F7F1-BAFF-402C-8C95-8212AA37A6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444C61-0150-41DF-8010-F90AF9267A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D4976-65AE-4BF9-AFD4-B5D861DE9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450C5F-DC33-4C05-9CC8-51B30C4374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AF96E3-4321-4251-B45D-9F3C269ADA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193338-E9B5-43CD-BFE6-D8C5C8849B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301E74-D286-4A2F-8C89-DEA7C887ED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A5C26D-516A-4209-A132-9EE8D27D2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43F80-96C9-4D0E-90DC-9C5C8A89D2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1D5C16-37B8-4806-9B28-8F2D9C684C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F8F0A8-88AE-4B59-A844-02861FDB07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BF7D28-C358-4872-8F54-24434017B4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12780C-EFD3-4B45-BC49-847A9F5154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62D8A-FD2B-4170-9E9D-331A41B25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D29C9B-C9C2-4505-910D-7524528285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A1CD1D-7F6A-4428-AC12-628BCC5429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150EF6-B18A-4424-A4C0-DA905DB560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D81C72-6714-4437-9B54-6ABC210813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316FC7-5A5A-4E91-96C5-9002959FF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4BDDF3-2E21-41FC-B737-720EA2E3D5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D1A6F3-B07F-409B-850A-B65DD2F3D7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CC78B-031C-49A6-911D-8C1683200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086B0A-1798-4C08-AE1A-050F6A8434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C361F5-4977-42BE-B268-38B08DAB6D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C3AF9-5A6F-4940-9867-9DE2DBBAE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5E2C66-8FF5-45D9-A28D-57FBEC396B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6B5C3F-3E70-409C-AE4D-64052FFE76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EC24BD-A0FA-434E-AA57-0B90ED5750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53697B-0D6C-4BA6-9B0C-CD7A8B326D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6E1E7E-A7F3-4863-8B52-193D187113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56DBF2-38F5-47FD-980C-AA1E2CC0F4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7CC226-1587-4AC0-A0FA-12D6C26CD9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417BC-9734-4DB0-A93E-B4878B6F6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90CB35-492F-44B4-B70A-3778028026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FEADE3-13F1-42FB-85C2-C136D4F7D2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2E7DD-D601-4BC6-BE26-A556728D6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740FF6-79A9-4D46-9F41-90BB063B1E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BD0989-AC7E-4DCC-A8CA-F2AE08BC3C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98000E-B404-4697-B023-293491302D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99F515-B166-46E8-AA3E-84B5873B9C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8E702-A68F-4521-BE25-8AAB171D90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0FBFFF-90C2-48E0-855D-8D5072D37F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3873FD-9757-4BFD-8449-17DEA48C46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4B1994-A208-4BCB-A4B3-8250CFFCC6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AD1151-65A7-46DA-9C17-A20DE32CA2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316660-BEB5-4AB1-B2BF-4F1EF5A51A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1EB56-9790-49D8-8476-AE627CD7C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7DD2B1-E611-4F4C-BAC8-138770747E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57F03D-AECF-4677-9375-6FE0D9AF2F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D0A1C8-34AE-435A-A375-261CCFF2FB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CFAD61-D650-4134-AD15-5686635762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585395-27F9-4ADE-8E62-25E19548FD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7554FD-7E49-4ABA-A180-E78B22ABBB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4FCB60-394A-40EA-970C-9D19FAC9E7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F8060C-DA28-4720-BD0F-84F09672E7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8C5918-A6E8-478D-9E46-3151C42829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CFFC8A-5379-42DC-9DAF-EB9267A81F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4FC52-E1B5-4607-A147-0E9E2E5F9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DF2C67-4358-4B01-8424-D7DD61AE26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F1816F-C251-447F-9083-9CA8EA3A9D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F538AA-E0E5-4CBA-9DCA-28B64399A5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76C4CB-267E-48A8-8AB2-EFFAFE4888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1A2EF8-7DD7-404B-A310-51FFBD5254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CB1C4B-0E4D-4251-84F6-D09E2EE454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FE7339-E4FC-4C26-8D11-AB7BC4253D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5BEC0B-BB58-4A57-96D8-0A758C4FA8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EFCAF5-CB78-4474-863B-A961D51086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BC798C-3350-44F0-A17A-65C96CFAF87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oogle Shape;6;p18"/>
          <p:cNvGrpSpPr/>
          <p:nvPr/>
        </p:nvGrpSpPr>
        <p:grpSpPr>
          <a:xfrm>
            <a:off x="8150400" y="-6480"/>
            <a:ext cx="1000080" cy="6870960"/>
            <a:chOff x="8150400" y="-6480"/>
            <a:chExt cx="1000080" cy="6870960"/>
          </a:xfrm>
        </p:grpSpPr>
        <p:pic>
          <p:nvPicPr>
            <p:cNvPr id="1" name="Google Shape;6;p1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3F79-CD3F-4E04-AE98-B9CE1AAD9506}"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oogle Shape;6;p18"/>
          <p:cNvGrpSpPr/>
          <p:nvPr/>
        </p:nvGrpSpPr>
        <p:grpSpPr>
          <a:xfrm>
            <a:off x="8150400" y="-6480"/>
            <a:ext cx="1000080" cy="6870960"/>
            <a:chOff x="8150400" y="-6480"/>
            <a:chExt cx="1000080" cy="6870960"/>
          </a:xfrm>
        </p:grpSpPr>
        <p:pic>
          <p:nvPicPr>
            <p:cNvPr id="397" name="Google Shape;6;p18" descr=""/>
            <p:cNvPicPr/>
            <p:nvPr/>
          </p:nvPicPr>
          <p:blipFill>
            <a:blip r:embed="rId2"/>
            <a:stretch/>
          </p:blipFill>
          <p:spPr>
            <a:xfrm>
              <a:off x="8150400" y="-6480"/>
              <a:ext cx="1000080" cy="6870960"/>
            </a:xfrm>
            <a:prstGeom prst="rect">
              <a:avLst/>
            </a:prstGeom>
            <a:ln w="0">
              <a:noFill/>
            </a:ln>
          </p:spPr>
        </p:pic>
        <p:sp>
          <p:nvSpPr>
            <p:cNvPr id="39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01" name="PlaceHolder 3"/>
          <p:cNvSpPr>
            <a:spLocks noGrp="1"/>
          </p:cNvSpPr>
          <p:nvPr>
            <p:ph type="dt" idx="28"/>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4"/>
          <p:cNvSpPr>
            <a:spLocks noGrp="1"/>
          </p:cNvSpPr>
          <p:nvPr>
            <p:ph type="ftr" idx="29"/>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5"/>
          <p:cNvSpPr>
            <a:spLocks noGrp="1"/>
          </p:cNvSpPr>
          <p:nvPr>
            <p:ph type="sldNum" idx="30"/>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03A9-6CA7-4A85-B56C-E5196E7F0F88}"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oogle Shape;6;p18"/>
          <p:cNvGrpSpPr/>
          <p:nvPr/>
        </p:nvGrpSpPr>
        <p:grpSpPr>
          <a:xfrm>
            <a:off x="8150400" y="-6480"/>
            <a:ext cx="1000080" cy="6870960"/>
            <a:chOff x="8150400" y="-6480"/>
            <a:chExt cx="1000080" cy="6870960"/>
          </a:xfrm>
        </p:grpSpPr>
        <p:pic>
          <p:nvPicPr>
            <p:cNvPr id="441" name="Google Shape;6;p18" descr=""/>
            <p:cNvPicPr/>
            <p:nvPr/>
          </p:nvPicPr>
          <p:blipFill>
            <a:blip r:embed="rId2"/>
            <a:stretch/>
          </p:blipFill>
          <p:spPr>
            <a:xfrm>
              <a:off x="8150400" y="-6480"/>
              <a:ext cx="1000080" cy="6870960"/>
            </a:xfrm>
            <a:prstGeom prst="rect">
              <a:avLst/>
            </a:prstGeom>
            <a:ln w="0">
              <a:noFill/>
            </a:ln>
          </p:spPr>
        </p:pic>
        <p:sp>
          <p:nvSpPr>
            <p:cNvPr id="44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45" name="PlaceHolder 3"/>
          <p:cNvSpPr>
            <a:spLocks noGrp="1"/>
          </p:cNvSpPr>
          <p:nvPr>
            <p:ph type="dt" idx="3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PlaceHolder 4"/>
          <p:cNvSpPr>
            <a:spLocks noGrp="1"/>
          </p:cNvSpPr>
          <p:nvPr>
            <p:ph type="ftr" idx="3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9D64C-E96E-492E-88EF-3D2878AAE352}"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oogle Shape;6;p18"/>
          <p:cNvGrpSpPr/>
          <p:nvPr/>
        </p:nvGrpSpPr>
        <p:grpSpPr>
          <a:xfrm>
            <a:off x="8150400" y="-6480"/>
            <a:ext cx="1000080" cy="6870960"/>
            <a:chOff x="8150400" y="-6480"/>
            <a:chExt cx="1000080" cy="6870960"/>
          </a:xfrm>
        </p:grpSpPr>
        <p:pic>
          <p:nvPicPr>
            <p:cNvPr id="485" name="Google Shape;6;p18" descr=""/>
            <p:cNvPicPr/>
            <p:nvPr/>
          </p:nvPicPr>
          <p:blipFill>
            <a:blip r:embed="rId2"/>
            <a:stretch/>
          </p:blipFill>
          <p:spPr>
            <a:xfrm>
              <a:off x="8150400" y="-6480"/>
              <a:ext cx="1000080" cy="6870960"/>
            </a:xfrm>
            <a:prstGeom prst="rect">
              <a:avLst/>
            </a:prstGeom>
            <a:ln w="0">
              <a:noFill/>
            </a:ln>
          </p:spPr>
        </p:pic>
        <p:sp>
          <p:nvSpPr>
            <p:cNvPr id="48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8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89" name="PlaceHolder 3"/>
          <p:cNvSpPr>
            <a:spLocks noGrp="1"/>
          </p:cNvSpPr>
          <p:nvPr>
            <p:ph type="dt" idx="34"/>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PlaceHolder 4"/>
          <p:cNvSpPr>
            <a:spLocks noGrp="1"/>
          </p:cNvSpPr>
          <p:nvPr>
            <p:ph type="ftr" idx="35"/>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PlaceHolder 5"/>
          <p:cNvSpPr>
            <a:spLocks noGrp="1"/>
          </p:cNvSpPr>
          <p:nvPr>
            <p:ph type="sldNum" idx="36"/>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87FDF-4389-45E6-A2AC-5E9903E90EA9}"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30" name="PlaceHolder 3"/>
          <p:cNvSpPr>
            <a:spLocks noGrp="1"/>
          </p:cNvSpPr>
          <p:nvPr>
            <p:ph type="dt" idx="37"/>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4"/>
          <p:cNvSpPr>
            <a:spLocks noGrp="1"/>
          </p:cNvSpPr>
          <p:nvPr>
            <p:ph type="ftr" idx="38"/>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C6F36-06BF-4905-9CFB-99DB1DFA2033}"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oogle Shape;71;p28"/>
          <p:cNvGrpSpPr/>
          <p:nvPr/>
        </p:nvGrpSpPr>
        <p:grpSpPr>
          <a:xfrm>
            <a:off x="8150400" y="-6480"/>
            <a:ext cx="1000080" cy="6870960"/>
            <a:chOff x="8150400" y="-6480"/>
            <a:chExt cx="1000080" cy="6870960"/>
          </a:xfrm>
        </p:grpSpPr>
        <p:pic>
          <p:nvPicPr>
            <p:cNvPr id="570" name="Google Shape;71;p28" descr=""/>
            <p:cNvPicPr/>
            <p:nvPr/>
          </p:nvPicPr>
          <p:blipFill>
            <a:blip r:embed="rId2"/>
            <a:stretch/>
          </p:blipFill>
          <p:spPr>
            <a:xfrm>
              <a:off x="8150400" y="-6480"/>
              <a:ext cx="1000080" cy="6870960"/>
            </a:xfrm>
            <a:prstGeom prst="rect">
              <a:avLst/>
            </a:prstGeom>
            <a:ln w="0">
              <a:noFill/>
            </a:ln>
          </p:spPr>
        </p:pic>
        <p:sp>
          <p:nvSpPr>
            <p:cNvPr id="57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7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74" name="PlaceHolder 3"/>
          <p:cNvSpPr>
            <a:spLocks noGrp="1"/>
          </p:cNvSpPr>
          <p:nvPr>
            <p:ph type="dt" idx="40"/>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PlaceHolder 4"/>
          <p:cNvSpPr>
            <a:spLocks noGrp="1"/>
          </p:cNvSpPr>
          <p:nvPr>
            <p:ph type="ftr" idx="41"/>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5EBD8-5D2C-4E48-8510-74159D9901EC}"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1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15" name="PlaceHolder 3"/>
          <p:cNvSpPr>
            <a:spLocks noGrp="1"/>
          </p:cNvSpPr>
          <p:nvPr>
            <p:ph type="dt" idx="43"/>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PlaceHolder 4"/>
          <p:cNvSpPr>
            <a:spLocks noGrp="1"/>
          </p:cNvSpPr>
          <p:nvPr>
            <p:ph type="ftr" idx="44"/>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DA6F-B3C8-4A3B-8EFE-9E634BA6E59D}"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Google Shape;99;p32"/>
          <p:cNvGrpSpPr/>
          <p:nvPr/>
        </p:nvGrpSpPr>
        <p:grpSpPr>
          <a:xfrm>
            <a:off x="8150400" y="-6480"/>
            <a:ext cx="1000080" cy="6870960"/>
            <a:chOff x="8150400" y="-6480"/>
            <a:chExt cx="1000080" cy="6870960"/>
          </a:xfrm>
        </p:grpSpPr>
        <p:pic>
          <p:nvPicPr>
            <p:cNvPr id="655" name="Google Shape;99;p32" descr=""/>
            <p:cNvPicPr/>
            <p:nvPr/>
          </p:nvPicPr>
          <p:blipFill>
            <a:blip r:embed="rId2"/>
            <a:stretch/>
          </p:blipFill>
          <p:spPr>
            <a:xfrm>
              <a:off x="8150400" y="-6480"/>
              <a:ext cx="1000080" cy="6870960"/>
            </a:xfrm>
            <a:prstGeom prst="rect">
              <a:avLst/>
            </a:prstGeom>
            <a:ln w="0">
              <a:noFill/>
            </a:ln>
          </p:spPr>
        </p:pic>
        <p:sp>
          <p:nvSpPr>
            <p:cNvPr id="65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5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59" name="PlaceHolder 3"/>
          <p:cNvSpPr>
            <a:spLocks noGrp="1"/>
          </p:cNvSpPr>
          <p:nvPr>
            <p:ph type="dt" idx="46"/>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PlaceHolder 4"/>
          <p:cNvSpPr>
            <a:spLocks noGrp="1"/>
          </p:cNvSpPr>
          <p:nvPr>
            <p:ph type="ftr" idx="47"/>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D0A2-B9F6-41EF-807A-0AD136437C32}"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oogle Shape;57;p26"/>
          <p:cNvGrpSpPr/>
          <p:nvPr/>
        </p:nvGrpSpPr>
        <p:grpSpPr>
          <a:xfrm>
            <a:off x="2664000" y="-6480"/>
            <a:ext cx="6486480" cy="6870960"/>
            <a:chOff x="2664000" y="-6480"/>
            <a:chExt cx="6486480" cy="6870960"/>
          </a:xfrm>
        </p:grpSpPr>
        <p:pic>
          <p:nvPicPr>
            <p:cNvPr id="45" name="Google Shape;57;p26"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47" name="Google Shape;58;p26"/>
          <p:cNvCxnSpPr/>
          <p:nvPr/>
        </p:nvCxnSpPr>
        <p:spPr>
          <a:xfrm flipV="1">
            <a:off x="2666520" y="-360"/>
            <a:ext cx="1080" cy="6858720"/>
          </a:xfrm>
          <a:prstGeom prst="straightConnector1">
            <a:avLst/>
          </a:prstGeom>
          <a:ln w="11520">
            <a:solidFill>
              <a:srgbClr val="f9f9f9"/>
            </a:solidFill>
            <a:miter/>
          </a:ln>
        </p:spPr>
      </p:cxn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2291-4996-403C-BFC1-5776E9CB081A}"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oogle Shape;71;p28"/>
          <p:cNvGrpSpPr/>
          <p:nvPr/>
        </p:nvGrpSpPr>
        <p:grpSpPr>
          <a:xfrm>
            <a:off x="8150400" y="-6480"/>
            <a:ext cx="1000080" cy="6870960"/>
            <a:chOff x="8150400" y="-6480"/>
            <a:chExt cx="1000080" cy="6870960"/>
          </a:xfrm>
        </p:grpSpPr>
        <p:pic>
          <p:nvPicPr>
            <p:cNvPr id="90" name="Google Shape;71;p2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41A9-5125-45F6-B619-19095DEC9558}"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Google Shape;84;p30"/>
          <p:cNvSpPr/>
          <p:nvPr/>
        </p:nvSpPr>
        <p:spPr>
          <a:xfrm rot="21240000">
            <a:off x="598320" y="1004760"/>
            <a:ext cx="4319640" cy="431172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85;p30"/>
          <p:cNvSpPr/>
          <p:nvPr/>
        </p:nvSpPr>
        <p:spPr>
          <a:xfrm rot="21420000">
            <a:off x="596880" y="998280"/>
            <a:ext cx="4319640" cy="431316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1D45-3B5D-4536-9AFC-2E74DD55E7D9}"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oogle Shape;99;p32"/>
          <p:cNvGrpSpPr/>
          <p:nvPr/>
        </p:nvGrpSpPr>
        <p:grpSpPr>
          <a:xfrm>
            <a:off x="8150400" y="-6480"/>
            <a:ext cx="1000080" cy="6870960"/>
            <a:chOff x="8150400" y="-6480"/>
            <a:chExt cx="1000080" cy="6870960"/>
          </a:xfrm>
        </p:grpSpPr>
        <p:pic>
          <p:nvPicPr>
            <p:cNvPr id="177" name="Google Shape;99;p32"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35AB-A62C-4521-9601-4A28F6FFEDB1}"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oogle Shape;6;p18"/>
          <p:cNvGrpSpPr/>
          <p:nvPr/>
        </p:nvGrpSpPr>
        <p:grpSpPr>
          <a:xfrm>
            <a:off x="8150400" y="-6480"/>
            <a:ext cx="1000080" cy="6870960"/>
            <a:chOff x="8150400" y="-6480"/>
            <a:chExt cx="1000080" cy="6870960"/>
          </a:xfrm>
        </p:grpSpPr>
        <p:pic>
          <p:nvPicPr>
            <p:cNvPr id="221" name="Google Shape;6;p1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25" name="PlaceHolder 3"/>
          <p:cNvSpPr>
            <a:spLocks noGrp="1"/>
          </p:cNvSpPr>
          <p:nvPr>
            <p:ph type="dt" idx="16"/>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type="ftr" idx="17"/>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type="sldNum" idx="18"/>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1908-F087-45C0-B3AE-930EE4D2F282}"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oogle Shape;6;p18"/>
          <p:cNvGrpSpPr/>
          <p:nvPr/>
        </p:nvGrpSpPr>
        <p:grpSpPr>
          <a:xfrm>
            <a:off x="8150400" y="-6480"/>
            <a:ext cx="1000080" cy="6870960"/>
            <a:chOff x="8150400" y="-6480"/>
            <a:chExt cx="1000080" cy="6870960"/>
          </a:xfrm>
        </p:grpSpPr>
        <p:pic>
          <p:nvPicPr>
            <p:cNvPr id="265" name="Google Shape;6;p1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69" name="PlaceHolder 3"/>
          <p:cNvSpPr>
            <a:spLocks noGrp="1"/>
          </p:cNvSpPr>
          <p:nvPr>
            <p:ph type="dt" idx="19"/>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4"/>
          <p:cNvSpPr>
            <a:spLocks noGrp="1"/>
          </p:cNvSpPr>
          <p:nvPr>
            <p:ph type="ftr" idx="20"/>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5"/>
          <p:cNvSpPr>
            <a:spLocks noGrp="1"/>
          </p:cNvSpPr>
          <p:nvPr>
            <p:ph type="sldNum" idx="21"/>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5687-6588-41DC-B154-85F0963BA1E0}"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oogle Shape;6;p18"/>
          <p:cNvGrpSpPr/>
          <p:nvPr/>
        </p:nvGrpSpPr>
        <p:grpSpPr>
          <a:xfrm>
            <a:off x="8150400" y="-6480"/>
            <a:ext cx="1000080" cy="6870960"/>
            <a:chOff x="8150400" y="-6480"/>
            <a:chExt cx="1000080" cy="6870960"/>
          </a:xfrm>
        </p:grpSpPr>
        <p:pic>
          <p:nvPicPr>
            <p:cNvPr id="309" name="Google Shape;6;p1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3" name="PlaceHolder 3"/>
          <p:cNvSpPr>
            <a:spLocks noGrp="1"/>
          </p:cNvSpPr>
          <p:nvPr>
            <p:ph type="dt" idx="22"/>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4"/>
          <p:cNvSpPr>
            <a:spLocks noGrp="1"/>
          </p:cNvSpPr>
          <p:nvPr>
            <p:ph type="ftr" idx="23"/>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PlaceHolder 5"/>
          <p:cNvSpPr>
            <a:spLocks noGrp="1"/>
          </p:cNvSpPr>
          <p:nvPr>
            <p:ph type="sldNum" idx="2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380A-6EB6-4DFF-B810-BD527C81FC4E}"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oogle Shape;6;p18"/>
          <p:cNvGrpSpPr/>
          <p:nvPr/>
        </p:nvGrpSpPr>
        <p:grpSpPr>
          <a:xfrm>
            <a:off x="8150400" y="-6480"/>
            <a:ext cx="1000080" cy="6870960"/>
            <a:chOff x="8150400" y="-6480"/>
            <a:chExt cx="1000080" cy="6870960"/>
          </a:xfrm>
        </p:grpSpPr>
        <p:pic>
          <p:nvPicPr>
            <p:cNvPr id="353" name="Google Shape;6;p18" descr=""/>
            <p:cNvPicPr/>
            <p:nvPr/>
          </p:nvPicPr>
          <p:blipFill>
            <a:blip r:embed="rId2"/>
            <a:stretch/>
          </p:blipFill>
          <p:spPr>
            <a:xfrm>
              <a:off x="8150400" y="-6480"/>
              <a:ext cx="1000080" cy="6870960"/>
            </a:xfrm>
            <a:prstGeom prst="rect">
              <a:avLst/>
            </a:prstGeom>
            <a:ln w="0">
              <a:noFill/>
            </a:ln>
          </p:spPr>
        </p:pic>
        <p:sp>
          <p:nvSpPr>
            <p:cNvPr id="354"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7" name="PlaceHolder 3"/>
          <p:cNvSpPr>
            <a:spLocks noGrp="1"/>
          </p:cNvSpPr>
          <p:nvPr>
            <p:ph type="dt" idx="25"/>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type="ftr" idx="26"/>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5"/>
          <p:cNvSpPr>
            <a:spLocks noGrp="1"/>
          </p:cNvSpPr>
          <p:nvPr>
            <p:ph type="sldNum" idx="27"/>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5576-BDA7-437E-8D2C-0859F868EC9C}"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Google Shape;115;p1"/>
          <p:cNvSpPr/>
          <p:nvPr/>
        </p:nvSpPr>
        <p:spPr>
          <a:xfrm>
            <a:off x="2205000" y="500040"/>
            <a:ext cx="438804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Faculty of Medical Sciences in Kragujeva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Google Shape;116;p1" descr="mf"/>
          <p:cNvPicPr/>
          <p:nvPr/>
        </p:nvPicPr>
        <p:blipFill>
          <a:blip r:embed="rId1"/>
          <a:stretch/>
        </p:blipFill>
        <p:spPr>
          <a:xfrm>
            <a:off x="8101080" y="0"/>
            <a:ext cx="1042920" cy="1405080"/>
          </a:xfrm>
          <a:prstGeom prst="rect">
            <a:avLst/>
          </a:prstGeom>
          <a:ln w="0">
            <a:noFill/>
          </a:ln>
        </p:spPr>
      </p:pic>
      <p:sp>
        <p:nvSpPr>
          <p:cNvPr id="700" name="Google Shape;118;p1"/>
          <p:cNvSpPr/>
          <p:nvPr/>
        </p:nvSpPr>
        <p:spPr>
          <a:xfrm>
            <a:off x="1835280" y="3124080"/>
            <a:ext cx="554508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imes New Roman"/>
                <a:ea typeface="Times New Roman"/>
              </a:rPr>
              <a:t>Communication with the geriatric populati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Google Shape;119;p1"/>
          <p:cNvSpPr/>
          <p:nvPr/>
        </p:nvSpPr>
        <p:spPr>
          <a:xfrm>
            <a:off x="3209760" y="5986440"/>
            <a:ext cx="4753080" cy="3967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Assistant p</a:t>
            </a:r>
            <a:r>
              <a:rPr b="0" lang="sr-RS" sz="2000" spc="-1" strike="noStrike">
                <a:solidFill>
                  <a:srgbClr val="b13f9a"/>
                </a:solidFill>
                <a:latin typeface="Times New Roman"/>
                <a:ea typeface="Times New Roman"/>
              </a:rPr>
              <a:t>rof</a:t>
            </a:r>
            <a:r>
              <a:rPr b="0" lang="en-US" sz="2000" spc="-1" strike="noStrike">
                <a:solidFill>
                  <a:srgbClr val="b13f9a"/>
                </a:solidFill>
                <a:latin typeface="Times New Roman"/>
                <a:ea typeface="Times New Roman"/>
              </a:rPr>
              <a:t>fesor </a:t>
            </a: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Branimir Radmano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bd388"/>
                </a:solidFill>
                <a:latin typeface="Trebuchet MS"/>
                <a:ea typeface="Trebuchet MS"/>
              </a:rPr>
              <a:t>DEMENTIA - PROGRESSIVE DIFFICULTIES IN COMMUNICATION</a:t>
            </a:r>
            <a:endParaRPr b="0" lang="en-US" sz="2800" spc="-1" strike="noStrike">
              <a:solidFill>
                <a:srgbClr val="000000"/>
              </a:solidFill>
              <a:latin typeface="Arial"/>
            </a:endParaRPr>
          </a:p>
        </p:txBody>
      </p:sp>
      <p:sp>
        <p:nvSpPr>
          <p:cNvPr id="71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uring the initial phase</a:t>
            </a:r>
            <a:r>
              <a:rPr b="0" lang="sr-RS" sz="2400" spc="-1" strike="noStrike">
                <a:solidFill>
                  <a:srgbClr val="000000"/>
                </a:solidFill>
                <a:latin typeface="Trebuchet MS"/>
                <a:ea typeface="Trebuchet MS"/>
              </a:rPr>
              <a:t>, sufferers will have problems with language. He will have difficulty following the conversation, and he will struggle to find the right word.</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e sufferer will need more time to think about what you have said and how they should respond. He may even describe what he wants instead of naming the thing he needs: for example, "that thing for my mouth" instead of "a toothbrush."</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is situation is frustrating for the patient, so it is important to show enough patience.</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HY DO COMMUNICATION PROBLEMS ARISE?</a:t>
            </a:r>
            <a:endParaRPr b="0" lang="en-US" sz="2800" spc="-1" strike="noStrike">
              <a:solidFill>
                <a:srgbClr val="000000"/>
              </a:solidFill>
              <a:latin typeface="Arial"/>
            </a:endParaRPr>
          </a:p>
        </p:txBody>
      </p:sp>
      <p:sp>
        <p:nvSpPr>
          <p:cNvPr id="72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forgetting events from the recent pas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reduced ability to concentr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the slowed response to stimuli from the environm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hearing and vision problem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the inability to read or understand at al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NUMEROUS PROBLEMS ARISE WHEN THE SUFFERER TRY TO COMMUNICATE:</a:t>
            </a:r>
            <a:endParaRPr b="0" lang="en-US" sz="2800" spc="-1" strike="noStrike">
              <a:solidFill>
                <a:srgbClr val="000000"/>
              </a:solidFill>
              <a:latin typeface="Arial"/>
            </a:endParaRPr>
          </a:p>
        </p:txBody>
      </p:sp>
      <p:sp>
        <p:nvSpPr>
          <p:cNvPr id="72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 that makes their speech unintelligibl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organizing words or thinking logical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non-verbal gesticulation</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patient does not want to make the situation difficult for anyone, rather, difficult communication is the result of the diseas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reality" of the sufferer is very different from the actual reality - the sufferer of Alzheimer's disease lives in his own trut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at you listen and understand what the patient is trying to tell you</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Focus on feelings not fact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endParaRPr b="0" lang="en-US" sz="2800" spc="-1" strike="noStrike">
              <a:solidFill>
                <a:srgbClr val="000000"/>
              </a:solidFill>
              <a:latin typeface="Arial"/>
            </a:endParaRPr>
          </a:p>
        </p:txBody>
      </p:sp>
      <p:sp>
        <p:nvSpPr>
          <p:cNvPr id="72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mphasize the importance of what the sufferer </a:t>
            </a:r>
            <a:r>
              <a:rPr b="1" lang="sr-RS" sz="2600" spc="-1" strike="noStrike">
                <a:solidFill>
                  <a:srgbClr val="000000"/>
                </a:solidFill>
                <a:latin typeface="Trebuchet MS"/>
                <a:ea typeface="Trebuchet MS"/>
              </a:rPr>
              <a:t>can do</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Prepare the person for what will happen nex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 realistic; B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o not argue, do not criticize, do not correct th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a sense of humor and remember that the person suffering from Alzheimer's disease  has it to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9"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If the behavior cannot harm the patient or others, allow it to take place spontaneous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What you say and what the patient hears at that moment are usually two different thing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Treat the patient with respect</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Use simple words, understandable languag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Do not communicate like a small child</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Not treating the patient as if he were a thing, not a human being</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Address the person by name and communicate only when you are sure you have their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Give them time to reac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Don't interrupt them</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3"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If he "runs out" of words, discreetly offer him a solution (phrase or word)</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Formulate questions and instructions in a positive sens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Watch their non-verbal communication, especially their facial expressions</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Briefly and clearly explain each procedure and/or procedure to them before starting the implementation</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etermine the time of day when they are most communicativ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b13f9a"/>
                </a:solidFill>
                <a:latin typeface="Trebuchet MS"/>
                <a:ea typeface="Trebuchet MS"/>
              </a:rPr>
              <a:t>Be empathetic</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e elderly person that you are interested in them, that you want to get to know them better, that you are sincere in your desire to help them</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stereotypes (old people are sick, have limited abili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sensory abilities (hearing, sight) and adap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psychosocial needs - understand their framework, vulnerability, fear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PlaceHolder 2"/>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ability to cope with problems (find out from the conversation how they coped with difficul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emotional st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need for help (do not encourage dependence on others if not necessary)</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 the patient's name several times (to direct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ssue instructions one at a tim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Communicate and touc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Give up the request if you recognize frustration, aggress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When repeating the same story, direct the person's attention to the goa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llow the other person to speak and listen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Learn to talk about things that interest other peop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Be careful with criticism</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Make requests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mit your mistakes</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Praise what is worthy of prais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b13f9a"/>
                </a:solidFill>
                <a:latin typeface="Trebuchet MS"/>
                <a:ea typeface="Trebuchet MS"/>
              </a:rPr>
              <a:t>Try to imagine yourself in the role of the other</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void arguments and do not contradict</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how a good mood</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1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functions of the senses, especially the senses of hearing and sight, weaken with ag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However, there is a great possibility of compensating sensory deficits through various aids such as glasses, hearing aids and the lik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elderly can adapt to the reduced sensitivity of one sense by better integrating all other information through other sense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VISION</a:t>
            </a:r>
            <a:endParaRPr b="0" lang="en-US" sz="2800" spc="-1" strike="noStrike">
              <a:solidFill>
                <a:srgbClr val="000000"/>
              </a:solidFill>
              <a:latin typeface="Arial"/>
            </a:endParaRPr>
          </a:p>
        </p:txBody>
      </p:sp>
      <p:sp>
        <p:nvSpPr>
          <p:cNvPr id="71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very noisy sounds and sudden movement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lways identify yourself when approaching a pers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tate your intentions before you start the conversa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f possible, encourage the visually impaired person to wear glass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the glasses clean and the diopter checked.</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HEARING</a:t>
            </a:r>
            <a:endParaRPr b="0" lang="en-US" sz="2800" spc="-1" strike="noStrike">
              <a:solidFill>
                <a:srgbClr val="000000"/>
              </a:solidFill>
              <a:latin typeface="Arial"/>
            </a:endParaRPr>
          </a:p>
        </p:txBody>
      </p:sp>
      <p:sp>
        <p:nvSpPr>
          <p:cNvPr id="715"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pproach the patient from the side of the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face to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by name and touch him/her gent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slowly and as clearly as possib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in a lower voi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Use non-verbal communication</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Write something, if necessar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If the person uses a hearing aid, encourage them to continue using it. Be sure to check if the device's battery is working.</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ITH AGEARE MORE COMMON</a:t>
            </a:r>
            <a:endParaRPr b="0" lang="en-US" sz="2800" spc="-1" strike="noStrike">
              <a:solidFill>
                <a:srgbClr val="000000"/>
              </a:solidFill>
              <a:latin typeface="Arial"/>
            </a:endParaRPr>
          </a:p>
        </p:txBody>
      </p:sp>
      <p:sp>
        <p:nvSpPr>
          <p:cNvPr id="717" name="PlaceHolder 2"/>
          <p:cNvSpPr>
            <a:spLocks noGrp="1"/>
          </p:cNvSpPr>
          <p:nvPr>
            <p:ph/>
          </p:nvPr>
        </p:nvSpPr>
        <p:spPr>
          <a:xfrm>
            <a:off x="457200" y="1609200"/>
            <a:ext cx="7238880" cy="4846680"/>
          </a:xfrm>
          <a:prstGeom prst="rect">
            <a:avLst/>
          </a:prstGeom>
          <a:noFill/>
          <a:ln w="0">
            <a:noFill/>
          </a:ln>
        </p:spPr>
        <p:txBody>
          <a:bodyPr anchor="t">
            <a:normAutofit fontScale="98000"/>
          </a:bodyPr>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ing common expressions/word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of new words to describe common term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asy to lose train of thought</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ies in maintaining logic in presentation</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Less and less communication, less and less talk</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gestures rather than speech</a:t>
            </a:r>
            <a:endParaRPr b="0" lang="en-US" sz="2600" spc="-1" strike="noStrike">
              <a:solidFill>
                <a:srgbClr val="000000"/>
              </a:solidFill>
              <a:latin typeface="Arial"/>
            </a:endParaRPr>
          </a:p>
          <a:p>
            <a:pPr marL="30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F</dc:creator>
  <dc:description/>
  <dc:language>en-US</dc:language>
  <cp:lastModifiedBy>Windows User</cp:lastModifiedBy>
  <dcterms:modified xsi:type="dcterms:W3CDTF">2023-12-17T22:59:26Z</dcterms:modified>
  <cp:revision>2</cp:revision>
  <dc:subject/>
  <dc:title>Slide 1</dc:title>
</cp:coreProperties>
</file>